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2E1B-BA42-439B-BF0B-DC5514FB7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E55D-22E6-4EFA-BFEF-1476FEDFC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C78F-CAFB-4022-8ED7-0F7D87119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144A-CFA3-44EE-A210-4F761AF80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496F-B352-4B1E-9958-AB8BD636C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5D1D-F2B7-425C-9102-33459AC14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73DE-2EC2-44AA-A7F7-0F8BEA4D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5F07-5F3B-48C9-95D6-719EEEB21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D58A-9380-4577-AF80-031366A8E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3393-242A-4ECE-A152-23F2500C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D175-DBAE-4696-82EE-5D2CBE12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9D30-1B5A-4EBC-B801-33CC86B2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03A8F-B92D-4D0A-B4DD-C594E55B39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GI/GMOD Update 9/03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l Richard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ML: digrap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14375" t="16001" r="30002" b="25602"/>
          <a:stretch/>
        </p:blipFill>
        <p:spPr>
          <a:xfrm>
            <a:off x="1219320" y="762120"/>
            <a:ext cx="67816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ML: tra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24375" t="18401" r="30002" b="18401"/>
          <a:stretch/>
        </p:blipFill>
        <p:spPr>
          <a:xfrm>
            <a:off x="1752480" y="304920"/>
            <a:ext cx="556272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ML: rend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3752" t="20000" r="36878" b="29601"/>
          <a:stretch/>
        </p:blipFill>
        <p:spPr>
          <a:xfrm>
            <a:off x="2666880" y="914400"/>
            <a:ext cx="35816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ML: ap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21251" t="28002" r="18751" b="14402"/>
          <a:stretch/>
        </p:blipFill>
        <p:spPr>
          <a:xfrm>
            <a:off x="99072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qdb_engi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framework for building and maintaining customized blastable datab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d by MGI to build the MouseBLAST set of databases (19 external, 25 interna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va class framework for filtering and routing sequence reco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ild processing based on ma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ent work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ndle change in GenBank release proceed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bundling for external 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us: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lea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838080" y="838080"/>
            <a:ext cx="7467840" cy="5105160"/>
            <a:chOff x="838080" y="838080"/>
            <a:chExt cx="7467840" cy="5105160"/>
          </a:xfrm>
        </p:grpSpPr>
        <p:sp>
          <p:nvSpPr>
            <p:cNvPr id="47" name=""/>
            <p:cNvSpPr/>
            <p:nvPr/>
          </p:nvSpPr>
          <p:spPr>
            <a:xfrm>
              <a:off x="7162920" y="2424600"/>
              <a:ext cx="1143000" cy="68976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ou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RNA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38880" y="4218480"/>
              <a:ext cx="1067040" cy="758880"/>
            </a:xfrm>
            <a:prstGeom prst="can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huma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RNA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838080" y="1320480"/>
              <a:ext cx="6095880" cy="4553280"/>
              <a:chOff x="838080" y="1320480"/>
              <a:chExt cx="6095880" cy="4553280"/>
            </a:xfrm>
          </p:grpSpPr>
          <p:sp>
            <p:nvSpPr>
              <p:cNvPr id="50" name=""/>
              <p:cNvSpPr/>
              <p:nvPr/>
            </p:nvSpPr>
            <p:spPr>
              <a:xfrm>
                <a:off x="2869920" y="2099160"/>
                <a:ext cx="1151280" cy="5986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hum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mRN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802240" y="2158920"/>
                <a:ext cx="1151640" cy="5990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hum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mRN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2869920" y="1320480"/>
                <a:ext cx="1151280" cy="5990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mouse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mRN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2802240" y="1380240"/>
                <a:ext cx="1151640" cy="5986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mouse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mRN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38080" y="2338920"/>
                <a:ext cx="1151280" cy="5990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PRI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38080" y="3417120"/>
                <a:ext cx="1151280" cy="599040"/>
              </a:xfrm>
              <a:prstGeom prst="rect">
                <a:avLst/>
              </a:prstGeom>
              <a:solidFill>
                <a:srgbClr val="ff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HTC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38080" y="5095080"/>
                <a:ext cx="1151280" cy="59904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NC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734560" y="1440000"/>
                <a:ext cx="1151280" cy="5990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mouse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mRN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734560" y="2219040"/>
                <a:ext cx="1151280" cy="5990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hum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mRN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38080" y="1440000"/>
                <a:ext cx="1151280" cy="5990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ROD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734560" y="3057840"/>
                <a:ext cx="1151280" cy="599040"/>
              </a:xfrm>
              <a:prstGeom prst="rect">
                <a:avLst/>
              </a:prstGeom>
              <a:solidFill>
                <a:srgbClr val="ff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mouse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mRN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734560" y="3776760"/>
                <a:ext cx="1151280" cy="599040"/>
              </a:xfrm>
              <a:prstGeom prst="rect">
                <a:avLst/>
              </a:prstGeom>
              <a:solidFill>
                <a:srgbClr val="ff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hum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mRN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734560" y="4555800"/>
                <a:ext cx="1151280" cy="59904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mouse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mRN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734560" y="5274720"/>
                <a:ext cx="1151280" cy="59904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hum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mRN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057040" y="1679760"/>
                <a:ext cx="609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V="1">
                <a:off x="2057040" y="2518560"/>
                <a:ext cx="609480" cy="59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V="1">
                <a:off x="2057040" y="3416760"/>
                <a:ext cx="609480" cy="239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057040" y="3776760"/>
                <a:ext cx="609480" cy="119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V="1">
                <a:off x="2057040" y="4915080"/>
                <a:ext cx="609480" cy="419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057040" y="5454360"/>
                <a:ext cx="609480" cy="59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4902120" y="2279160"/>
                <a:ext cx="1151280" cy="1197720"/>
                <a:chOff x="4902120" y="2279160"/>
                <a:chExt cx="1151280" cy="119772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4902120" y="2279160"/>
                  <a:ext cx="1151280" cy="39924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902120" y="2678400"/>
                  <a:ext cx="1151280" cy="399240"/>
                </a:xfrm>
                <a:prstGeom prst="rect">
                  <a:avLst/>
                </a:prstGeom>
                <a:solidFill>
                  <a:srgbClr val="ff66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902120" y="3077640"/>
                  <a:ext cx="1151280" cy="39924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4902120" y="4136400"/>
                <a:ext cx="1151280" cy="1198080"/>
                <a:chOff x="4902120" y="4136400"/>
                <a:chExt cx="1151280" cy="119808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4902120" y="4136400"/>
                  <a:ext cx="1151280" cy="39924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902120" y="4535640"/>
                  <a:ext cx="1151280" cy="399600"/>
                </a:xfrm>
                <a:prstGeom prst="rect">
                  <a:avLst/>
                </a:prstGeom>
                <a:solidFill>
                  <a:srgbClr val="ff66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4902120" y="4935240"/>
                  <a:ext cx="1151280" cy="39924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" name=""/>
              <p:cNvSpPr/>
              <p:nvPr/>
            </p:nvSpPr>
            <p:spPr>
              <a:xfrm>
                <a:off x="3750840" y="1799640"/>
                <a:ext cx="1083240" cy="599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818160" y="2578680"/>
                <a:ext cx="1083600" cy="1557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V="1">
                <a:off x="3953880" y="2818080"/>
                <a:ext cx="880200" cy="538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V="1">
                <a:off x="3953880" y="3297240"/>
                <a:ext cx="880200" cy="1557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953880" y="4076640"/>
                <a:ext cx="880200" cy="538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3953880" y="5094720"/>
                <a:ext cx="880200" cy="479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189120" y="2878200"/>
                <a:ext cx="609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189120" y="4675680"/>
                <a:ext cx="744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6" name=""/>
            <p:cNvSpPr/>
            <p:nvPr/>
          </p:nvSpPr>
          <p:spPr>
            <a:xfrm>
              <a:off x="2286000" y="1182600"/>
              <a:ext cx="0" cy="469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904400" y="838080"/>
              <a:ext cx="7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lt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8840" y="838080"/>
              <a:ext cx="80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ou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419720" y="1182600"/>
              <a:ext cx="0" cy="469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477120" y="1251720"/>
              <a:ext cx="0" cy="469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44680" y="838080"/>
              <a:ext cx="111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essd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687600" y="6035760"/>
            <a:ext cx="13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Ba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88040" y="6035760"/>
            <a:ext cx="170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medi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77280" y="6035760"/>
            <a:ext cx="12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63280" y="6035760"/>
            <a:ext cx="137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quen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ab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N: Gene Expression Noteboo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lab-notebook application for managing gene expression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says, reagents, resul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ronic data submission to GX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lemented in Exc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rking on ports to Win 2000, Mac OS/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cel ain’t so cross-platform!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us: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lea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tology Browser/Annotation View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iginal proposal: reimplement MGI’s text-based browser in Java, then rel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tter browsers already avail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ent prototyping work at MGI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phical displays (using AT&amp;T GraphViz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ilar to SGD’s TermFin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plan: release the prototyp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us: soon (core libraries ready to g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totype GO Annotation View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15376"/>
          <a:stretch/>
        </p:blipFill>
        <p:spPr>
          <a:xfrm>
            <a:off x="533520" y="228600"/>
            <a:ext cx="8048520" cy="739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gf4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8593" r="25113" b="4619"/>
          <a:stretch/>
        </p:blipFill>
        <p:spPr>
          <a:xfrm>
            <a:off x="1143000" y="228600"/>
            <a:ext cx="6553080" cy="63644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flipV="1">
            <a:off x="4191120" y="3047760"/>
            <a:ext cx="22860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st Set: 78 ge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9376" t="23656" r="2344" b="5375"/>
          <a:stretch/>
        </p:blipFill>
        <p:spPr>
          <a:xfrm>
            <a:off x="533520" y="533520"/>
            <a:ext cx="8610480" cy="50292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 flipV="1">
            <a:off x="7543800" y="3657240"/>
            <a:ext cx="22860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un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2357" t="18183" r="5698" b="6362"/>
          <a:stretch/>
        </p:blipFill>
        <p:spPr>
          <a:xfrm>
            <a:off x="0" y="76320"/>
            <a:ext cx="89154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2T20:35:57Z</dcterms:created>
  <dc:creator>jer</dc:creator>
  <dc:description/>
  <dc:language>en-US</dc:language>
  <cp:lastModifiedBy>jer</cp:lastModifiedBy>
  <dcterms:modified xsi:type="dcterms:W3CDTF">2003-09-15T14:11:20Z</dcterms:modified>
  <cp:revision>14</cp:revision>
  <dc:subject/>
  <dc:title>PowerPoint Presentation</dc:title>
</cp:coreProperties>
</file>